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1D3-5B66-4691-B779-05E52550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182-7AE2-4C79-8F76-88F8A4F9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4A3-5A46-4782-A4CE-1B0A1150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62D-7E4E-4538-AD70-7A2F1B3A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66A-4D4A-4C94-B636-6826CFF3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EC5-B4C9-40C4-BC9C-B2BE5825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D86-86A0-456F-8423-DD16CF46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AAB0-290A-4D07-8698-5C761CD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CB9F-DE9F-4981-8AFA-AE1D6018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A3D-591E-45A6-BFF3-A64B1C0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A10-3E24-4F5F-BC2A-19A05013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B7C-EF6D-41EA-B091-93AF367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7CE-EE6D-4130-A473-77B1F75CC4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Food, 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 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5029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machinery, chemicals, foo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601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manufactured goods, chemicals &amp; fu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the United Kingdom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 manufactured goods, chemicals &amp; fu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Prime Min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Qu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4876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Secretary of Homelan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57800" y="60357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Secretary of Defe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Head of Parliam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6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: Prime Min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5943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3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Sp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Bangers and M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Spaghe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opular food made up of mashed potatoes and saus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7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7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: Bangers and M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8a4b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200"/>
                            </p:stCondLst>
                            <p:childTnLst>
                              <p:par>
                                <p:cTn id="2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700"/>
                            </p:stCondLst>
                            <p:childTnLst>
                              <p:par>
                                <p:cTn id="2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2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5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Parlia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Bicameral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Dictato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Unicam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orm of government used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8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8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9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Y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 do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P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urrency used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9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" fill="hold"/>
                                        <p:tgtEl>
                                          <p:spTgt spid="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: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 Bangers and Ma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35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Fish and C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Waterme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opular food called that is made up of fish and fried potato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1" fill="hold"/>
                                        <p:tgtEl>
                                          <p:spTgt spid="1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: Fish and C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" fill="hold"/>
                                        <p:tgtEl>
                                          <p:spTgt spid="1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4197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Hindu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Budd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Musl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Christia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most popular religion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" fill="hold"/>
                                        <p:tgtEl>
                                          <p:spTgt spid="1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" fill="hold"/>
                                        <p:tgtEl>
                                          <p:spTgt spid="1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 Christia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House of Lords &amp; House of Comm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38080" y="5943600"/>
            <a:ext cx="365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House of Lords, and Executive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952880" y="50292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Judiciary, Execu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952880" y="60958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Legislative, Execu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5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Kingdoms’ parliament is divided into which two hou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" fill="hold"/>
                                        <p:tgtEl>
                                          <p:spTgt spid="1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House of Lords &amp; House of Comm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468a4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8a4b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75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2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700"/>
                            </p:stCondLst>
                            <p:childTnLst>
                              <p:par>
                                <p:cTn id="4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200"/>
                            </p:stCondLst>
                            <p:childTnLst>
                              <p:par>
                                <p:cTn id="4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60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9, 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22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people live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1" fill="hold"/>
                                        <p:tgtEl>
                                          <p:spTgt spid="1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4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60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1" fill="hold"/>
                                        <p:tgtEl>
                                          <p:spTgt spid="1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28600" y="5943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e P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53352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Queen / Royal Fa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 A Dict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Prime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1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the head of state in the United Kingdom govern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" fill="hold"/>
                                        <p:tgtEl>
                                          <p:spTgt spid="16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1" fill="hold"/>
                                        <p:tgtEl>
                                          <p:spTgt spid="16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952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A:  England, Scotland, Northern Ireland, W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60199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: England, France, Wales, Ire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952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B: Wales, France, Scotland, Ire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6019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D: France, Norway, Ireland, W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Kingdom is made up of which four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: Queen / Royal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1" fill="hold"/>
                                        <p:tgtEl>
                                          <p:spTgt spid="1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3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average life expectancy in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:7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3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5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primary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33520" y="6095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Graduate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952880" y="60958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secondary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0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61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685800" y="68580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type of school do you attend from ages   5-11, and is similar to elementary school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9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8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1" fill="hold"/>
                                        <p:tgtEl>
                                          <p:spTgt spid="18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primary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9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Northern Eur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As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Sout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Central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86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is the United Kingdom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94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6" dur="1" fill="hold"/>
                                        <p:tgtEl>
                                          <p:spTgt spid="19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1" fill="hold"/>
                                        <p:tgtEl>
                                          <p:spTgt spid="19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7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: North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– England, Scotland, Northern Ireland, Wa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97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98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5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06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1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2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3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9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40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48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5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064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9" dur="1" fill="hold"/>
                                        <p:tgtEl>
                                          <p:spTgt spid="19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: Stars and B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60958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: Union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B: Stars and Str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: The P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ickname for the flag of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Answer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Union J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Click to conti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21:36:51Z</dcterms:created>
  <dc:creator>Karla Stander</dc:creator>
  <dc:description/>
  <dc:language>en-US</dc:language>
  <cp:lastModifiedBy>kurk</cp:lastModifiedBy>
  <dcterms:modified xsi:type="dcterms:W3CDTF">2008-11-20T15:37:57Z</dcterms:modified>
  <cp:revision>7</cp:revision>
  <dc:subject/>
  <dc:title>Slide 1</dc:title>
</cp:coreProperties>
</file>